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D0322-4EC3-459B-9E69-EE456A2F1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F99BC-3EAF-4B8F-B1B8-615CC0FC2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0EC1B-0767-4FBB-B043-A9A680F42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AD6E2-18BF-4FF0-960A-0959D79DF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coln-Douglas Deb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49B57-F2F6-4654-ACE8-547F535B5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coln-Douglas Deb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91402-07CA-4103-B2AE-DCF41E931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Brown 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D2965-2AD9-43EE-8FA7-C8F8D8D59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F64B4-3476-43EA-A6B9-CD6F5778A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B490C-217F-4BF0-86AA-576DAEE02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F97E3-B950-460F-81DB-23B3FECE5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518CB-0FCA-4D56-B888-9748DEE20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4F16A-D7E9-41AF-8E12-E4C6A8446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Beecher St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7F1B2-9290-4A20-9EA1-FA7426ACA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4B42D-B5F2-4315-BE0A-919127E14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3E66C-6E96-4640-B369-F28CAA6F0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E21-60B3-4D89-BC69-E83853D9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471-57B4-4923-B30B-0D2078EB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DF2-6352-42A8-B121-5149F8D1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CD0-A7CC-4713-A094-3BAFAB1E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CB6-A660-4F2D-A77A-D6C95ACE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A6B-186E-48EB-AF5A-DF2C126C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8EF-B9D4-4C89-8A71-6713B1BA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120-F354-4F24-B118-5A0361D7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839-164D-4B0D-8AB2-B65EA580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CE9-6754-46F0-BF1D-C8DC36FD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520-22D1-423C-8595-C1D7B86A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2C7-1225-4DFC-8D34-580AB53E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4780D-CBDB-47AC-945A-F7431265A5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754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905120" y="6858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 Turner’s Rebellion:  Virginia, 18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304920" y="2444760"/>
            <a:ext cx="4800600" cy="281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5505480" y="990720"/>
            <a:ext cx="321948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808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your opinion, which picture is more accura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089680" y="762120"/>
            <a:ext cx="3825720" cy="587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64796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2077920" y="304920"/>
            <a:ext cx="49294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338040"/>
            <a:ext cx="9144000" cy="618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-1219320" y="685800"/>
            <a:ext cx="108205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216400" cy="5529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6019920" y="1295280"/>
            <a:ext cx="27432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berat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 newspaper published by William Lloyd Gar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987720" cy="6043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5334120" y="1676520"/>
            <a:ext cx="27432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r of the “Underground Railro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312444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486400" y="2133720"/>
            <a:ext cx="29718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I would unite with anybody to do right and with nobody to do wrong.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1066680"/>
            <a:ext cx="4898880" cy="556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030640" y="228600"/>
            <a:ext cx="39070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14840" cy="5105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243828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295280" y="-12600"/>
            <a:ext cx="49611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5867280" y="5410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hn Brown in 185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292480" y="0"/>
            <a:ext cx="460368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5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8:08:13Z</dcterms:created>
  <dc:creator>chsd230</dc:creator>
  <dc:description/>
  <dc:language>en-US</dc:language>
  <cp:lastModifiedBy>Dominic Lambek</cp:lastModifiedBy>
  <dcterms:modified xsi:type="dcterms:W3CDTF">2014-06-03T13:34:13Z</dcterms:modified>
  <cp:revision>11</cp:revision>
  <dc:subject/>
  <dc:title>PowerPoint Presentation</dc:title>
</cp:coreProperties>
</file>